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976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D86-01F3-4D6E-AB51-A6B3478D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263-DB76-48C7-BD6D-1DBA6E9F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FB2-464E-413E-9B9F-E85D0065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1F0-7506-4E68-9115-F87A34BA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10C-A13F-4DF0-87A4-AA79D3DD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DCD-147B-4442-A6E4-D20EF2C3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EBF-33B5-4277-874C-AAB9DF6C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21F-EC11-4404-8DFC-DADB016E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BA5-1CD2-431B-8992-7948FB6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B89-71BB-4320-83F1-E5670FD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0F3-F212-43AF-9BFC-8EDBE33F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5E0-8833-4956-B2EF-F370913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6FA5-10CA-4892-8204-0BDDF764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microsoft.com/sql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sqldevcon.com/fall02Tour.asp" TargetMode="External"/><Relationship Id="rId6" Type="http://schemas.openxmlformats.org/officeDocument/2006/relationships/hyperlink" Target="http://sqldevcon.com/fall02Tour.asp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9714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Banco de D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para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achada2" descr=""/>
          <p:cNvPicPr/>
          <p:nvPr/>
        </p:nvPicPr>
        <p:blipFill>
          <a:blip r:embed="rId1"/>
          <a:stretch/>
        </p:blipFill>
        <p:spPr>
          <a:xfrm>
            <a:off x="795240" y="5715000"/>
            <a:ext cx="5376960" cy="1403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7162920"/>
            <a:ext cx="48006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2º seme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oracle_image_map" descr=""/>
          <p:cNvPicPr/>
          <p:nvPr/>
        </p:nvPicPr>
        <p:blipFill>
          <a:blip r:embed="rId2"/>
          <a:srcRect l="36425" t="0" r="34885" b="0"/>
          <a:stretch/>
        </p:blipFill>
        <p:spPr>
          <a:xfrm>
            <a:off x="4572000" y="990720"/>
            <a:ext cx="1981080" cy="59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2040" y="4183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nr_sql" descr="Microsoft(R) SQL Server(TM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914400"/>
            <a:ext cx="2857320" cy="6858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2849400"/>
            <a:ext cx="6858000" cy="3446280"/>
            <a:chOff x="0" y="2849400"/>
            <a:chExt cx="6858000" cy="3446280"/>
          </a:xfrm>
        </p:grpSpPr>
        <p:sp>
          <p:nvSpPr>
            <p:cNvPr id="48" name=""/>
            <p:cNvSpPr/>
            <p:nvPr/>
          </p:nvSpPr>
          <p:spPr>
            <a:xfrm>
              <a:off x="0" y="2849400"/>
              <a:ext cx="6172200" cy="34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49400"/>
              <a:ext cx="68580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 u="sng">
                  <a:solidFill>
                    <a:srgbClr val="ccccff"/>
                  </a:solidFill>
                  <a:uFillTx/>
                  <a:latin typeface="Arial"/>
                  <a:hlinkClick r:id="rId5"/>
                </a:rPr>
                <a:t>  </a:t>
              </a:r>
              <a:r>
                <a:rPr b="0" lang="pt-BR" sz="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Tour_ASP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19051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logo" descr=""/>
          <p:cNvPicPr/>
          <p:nvPr/>
        </p:nvPicPr>
        <p:blipFill>
          <a:blip r:embed="rId8"/>
          <a:stretch/>
        </p:blipFill>
        <p:spPr>
          <a:xfrm>
            <a:off x="4038480" y="2286000"/>
            <a:ext cx="26672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4:53:10Z</dcterms:created>
  <dc:creator>FUNDACENTRO</dc:creator>
  <dc:description/>
  <dc:language>en-US</dc:language>
  <cp:lastModifiedBy>FUNDACENTRO</cp:lastModifiedBy>
  <dcterms:modified xsi:type="dcterms:W3CDTF">2002-09-20T15:10:46Z</dcterms:modified>
  <cp:revision>2</cp:revision>
  <dc:subject/>
  <dc:title>Banco de Dados</dc:title>
</cp:coreProperties>
</file>